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4F3D-9603-41BE-B545-EF5D490B2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D10B-B539-4ADF-AD08-8E1831654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E428-90E8-47BB-9E5E-B2AAC1485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653C-915D-488A-A51F-E127220A5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7C2AA0-0499-457B-8C1E-02A811239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68D1DB-132F-4FCE-ADEB-1C349E410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969DA0-0E46-46E5-9167-8319E4D94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54512B-F7C0-4237-83C3-801E3513E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58C970-8D9B-47CF-BE3A-4001778DB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B4649F-EDFB-4C45-A62A-4F752A889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4784AA-56A1-4409-AEC1-68EBDF0C8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C74B-8DFF-408E-8131-AEB0120A6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A60403-3D61-4D6E-B6BA-28E12083C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43589E-BFF6-41CC-BBD4-9AE604549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47D76E-4A16-4EC9-87DA-C0EDC060E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1B21E8-03EC-4C0E-9C43-1C0D0AB0D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843D1B-AEA4-4C0F-AAC5-72249D7E9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1BC7-1A4A-41BB-A983-A08C6117C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70D1-CA9C-4DC6-978A-371227A67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BEAD-B1B4-4D06-B0B7-9A407BA1E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A1DF-78AC-4542-B452-CBD4725B1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153D-839D-4B5A-BB78-DD78C701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031E-A29C-4E02-B1FA-FD637361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05B8-3BCA-4A0F-BC57-BB103BBA4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B8997-A4FB-4C00-BA85-9F21AE9A633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EB663-7C1C-47DA-8171-92138735C15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630520" y="0"/>
            <a:ext cx="34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PROBLEMA 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250920" y="907920"/>
            <a:ext cx="6492600" cy="5394600"/>
            <a:chOff x="250920" y="907920"/>
            <a:chExt cx="6492600" cy="5394600"/>
          </a:xfrm>
        </p:grpSpPr>
        <p:grpSp>
          <p:nvGrpSpPr>
            <p:cNvPr id="85" name=""/>
            <p:cNvGrpSpPr/>
            <p:nvPr/>
          </p:nvGrpSpPr>
          <p:grpSpPr>
            <a:xfrm>
              <a:off x="3274920" y="907920"/>
              <a:ext cx="3468600" cy="5394600"/>
              <a:chOff x="3274920" y="907920"/>
              <a:chExt cx="3468600" cy="5394600"/>
            </a:xfrm>
          </p:grpSpPr>
          <p:pic>
            <p:nvPicPr>
              <p:cNvPr id="8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274920" y="907920"/>
                <a:ext cx="3468600" cy="539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" name=""/>
              <p:cNvSpPr/>
              <p:nvPr/>
            </p:nvSpPr>
            <p:spPr>
              <a:xfrm>
                <a:off x="4209840" y="5011920"/>
                <a:ext cx="289080" cy="28728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250920" y="4292640"/>
              <a:ext cx="2952720" cy="3682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ureza de temple : 58 HR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202200" y="4653000"/>
              <a:ext cx="1008000" cy="288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6315840" y="6308640"/>
            <a:ext cx="28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Metalotecnia. E.T.S.I.M.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1042920" y="260280"/>
            <a:ext cx="7797600" cy="6345360"/>
            <a:chOff x="1042920" y="260280"/>
            <a:chExt cx="7797600" cy="6345360"/>
          </a:xfrm>
        </p:grpSpPr>
        <p:sp>
          <p:nvSpPr>
            <p:cNvPr id="92" name=""/>
            <p:cNvSpPr/>
            <p:nvPr/>
          </p:nvSpPr>
          <p:spPr>
            <a:xfrm>
              <a:off x="2703600" y="260280"/>
              <a:ext cx="3490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PROBLEMA 2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2"/>
            <a:stretch/>
          </p:blipFill>
          <p:spPr>
            <a:xfrm>
              <a:off x="1476360" y="1341360"/>
              <a:ext cx="6200640" cy="438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1908000" y="2205000"/>
              <a:ext cx="1368720" cy="1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132000" y="1989000"/>
              <a:ext cx="0" cy="2880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042920" y="2060640"/>
              <a:ext cx="863640" cy="307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58 HRC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771640" y="4869000"/>
              <a:ext cx="863640" cy="307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0000"/>
                  </a:solidFill>
                  <a:latin typeface="Times New Roman"/>
                </a:rPr>
                <a:t>dj = 6,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009480" y="6237360"/>
              <a:ext cx="283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Times New Roman"/>
                </a:rPr>
                <a:t>Metalotecnia. E.T.S.I.M.O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703600" y="0"/>
            <a:ext cx="34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PROBLEMA 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759280" y="6278400"/>
            <a:ext cx="338472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f. J. A. Pero – San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Aceros. Metalurgia Física, Selección y Diseñ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332000" y="981000"/>
            <a:ext cx="4464000" cy="5594400"/>
            <a:chOff x="1332000" y="981000"/>
            <a:chExt cx="4464000" cy="559440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332000" y="981000"/>
              <a:ext cx="4464000" cy="559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 flipV="1">
              <a:off x="2717640" y="4102200"/>
              <a:ext cx="0" cy="1482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2103120" y="4181400"/>
              <a:ext cx="6922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951200" y="4024440"/>
              <a:ext cx="306360" cy="311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6156360" y="3336840"/>
            <a:ext cx="2376360" cy="74556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ff"/>
                </a:solidFill>
                <a:latin typeface="Times New Roman"/>
              </a:rPr>
              <a:t>Para dj </a:t>
            </a:r>
            <a:r>
              <a:rPr b="1" lang="es-ES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≈ 10 mm</a:t>
            </a:r>
            <a:r>
              <a:rPr b="1" lang="es-ES" sz="2000" spc="-1" strike="noStrike">
                <a:solidFill>
                  <a:srgbClr val="0066ff"/>
                </a:solidFill>
                <a:latin typeface="Times New Roman"/>
              </a:rPr>
              <a:t> D</a:t>
            </a:r>
            <a:r>
              <a:rPr b="1" lang="es-ES" sz="2000" spc="-1" strike="noStrike" baseline="-25000">
                <a:solidFill>
                  <a:srgbClr val="0066ff"/>
                </a:solidFill>
                <a:latin typeface="Times New Roman"/>
              </a:rPr>
              <a:t>ci</a:t>
            </a:r>
            <a:r>
              <a:rPr b="1" lang="es-ES" sz="2000" spc="-1" strike="noStrike">
                <a:solidFill>
                  <a:srgbClr val="0066ff"/>
                </a:solidFill>
                <a:latin typeface="Times New Roman"/>
              </a:rPr>
              <a:t> = 65 mm (2,6”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1042920" y="0"/>
            <a:ext cx="8101080" cy="6863400"/>
            <a:chOff x="1042920" y="0"/>
            <a:chExt cx="8101080" cy="6863400"/>
          </a:xfrm>
        </p:grpSpPr>
        <p:sp>
          <p:nvSpPr>
            <p:cNvPr id="108" name=""/>
            <p:cNvSpPr/>
            <p:nvPr/>
          </p:nvSpPr>
          <p:spPr>
            <a:xfrm>
              <a:off x="2124000" y="2852640"/>
              <a:ext cx="0" cy="216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982960" y="0"/>
              <a:ext cx="3490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PROBLEMA 2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995640" y="5229360"/>
              <a:ext cx="136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Fig. II.17.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042920" y="5516640"/>
              <a:ext cx="7201080" cy="8150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Para D</a:t>
              </a:r>
              <a:r>
                <a:rPr b="1" lang="es-ES" sz="2000" spc="-1" strike="noStrike" u="sng" baseline="-25000">
                  <a:solidFill>
                    <a:srgbClr val="ff0000"/>
                  </a:solidFill>
                  <a:uFillTx/>
                  <a:latin typeface="Times New Roman"/>
                </a:rPr>
                <a:t>ci</a:t>
              </a:r>
              <a:r>
                <a:rPr b="1" lang="es-ES" sz="20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 = 2,6” (65 mm):</a:t>
              </a:r>
              <a:r>
                <a:rPr b="1" lang="es-ES" sz="20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lang="es-ES" sz="24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r>
                <a:rPr b="1" lang="es-ES" sz="2400" spc="-1" strike="noStrike" baseline="-25000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1" lang="es-ES" sz="2400" spc="-1" strike="noStrike">
                  <a:solidFill>
                    <a:srgbClr val="ff0000"/>
                  </a:solidFill>
                  <a:latin typeface="Times New Roman"/>
                </a:rPr>
                <a:t> = 1,3” (33 mm para H = 0,5),</a:t>
              </a:r>
              <a:r>
                <a:rPr b="1" lang="es-ES" sz="2000" spc="-1" strike="noStrike">
                  <a:solidFill>
                    <a:srgbClr val="ff0000"/>
                  </a:solidFill>
                  <a:latin typeface="Times New Roman"/>
                </a:rPr>
                <a:t> 1,55” (39 mm para H = 0,7) y 1,75” (45 mm para H = 1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012000" y="6278400"/>
              <a:ext cx="3132000" cy="58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Prof. J. A. Pero – Sanz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Aceros. Metalurgia Física, Selección y Diseñ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3" name="" descr=""/>
            <p:cNvPicPr/>
            <p:nvPr/>
          </p:nvPicPr>
          <p:blipFill>
            <a:blip r:embed="rId2"/>
            <a:stretch/>
          </p:blipFill>
          <p:spPr>
            <a:xfrm>
              <a:off x="1258920" y="907920"/>
              <a:ext cx="6502320" cy="431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 flipH="1">
              <a:off x="6876720" y="1916280"/>
              <a:ext cx="358920" cy="712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234200" y="1700280"/>
              <a:ext cx="719280" cy="276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Times New Roman"/>
                </a:rPr>
                <a:t>H = 0,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6300720" y="1557000"/>
              <a:ext cx="0" cy="3166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1906200" y="2492280"/>
              <a:ext cx="45370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494000" y="2349360"/>
              <a:ext cx="50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Times New Roman"/>
                </a:rPr>
                <a:t>1,3”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084720" y="472428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3300"/>
                  </a:solidFill>
                  <a:latin typeface="Times New Roman"/>
                </a:rPr>
                <a:t>2,6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154560" y="2349360"/>
              <a:ext cx="287640" cy="289080"/>
            </a:xfrm>
            <a:prstGeom prst="ellipse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1906560" y="2060640"/>
              <a:ext cx="4464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492200" y="1916280"/>
              <a:ext cx="504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1,55”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154560" y="1916280"/>
              <a:ext cx="287640" cy="2887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1907640" y="1700280"/>
              <a:ext cx="4535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492200" y="1628640"/>
              <a:ext cx="503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1,75”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156360" y="1484280"/>
              <a:ext cx="287280" cy="3603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162920" y="1341360"/>
              <a:ext cx="718920" cy="276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Times New Roman"/>
                </a:rPr>
                <a:t>H = 0,7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300720" y="981000"/>
              <a:ext cx="719280" cy="276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Times New Roman"/>
                </a:rPr>
                <a:t>H = 1,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6877080" y="1557360"/>
              <a:ext cx="287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588000" y="1268280"/>
              <a:ext cx="0" cy="217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1619280" y="0"/>
            <a:ext cx="7524720" cy="6678000"/>
            <a:chOff x="1619280" y="0"/>
            <a:chExt cx="7524720" cy="6678000"/>
          </a:xfrm>
        </p:grpSpPr>
        <p:sp>
          <p:nvSpPr>
            <p:cNvPr id="132" name=""/>
            <p:cNvSpPr/>
            <p:nvPr/>
          </p:nvSpPr>
          <p:spPr>
            <a:xfrm>
              <a:off x="2627280" y="0"/>
              <a:ext cx="3529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PROBLEMA 2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759280" y="6093000"/>
              <a:ext cx="3384720" cy="58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Prof. J. A. Pero – Sanz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Aceros. Metalurgia Física, Selección y Diseñ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24360" y="3284640"/>
              <a:ext cx="3024360" cy="11912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Redondo de 30 mm (periferia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Para H = 0,5         dj = 6 mm Para H = 1,0         dj = 3 mm 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70840" y="4292640"/>
              <a:ext cx="274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1619280" y="981000"/>
              <a:ext cx="3903120" cy="5400720"/>
              <a:chOff x="1619280" y="981000"/>
              <a:chExt cx="3903120" cy="5400720"/>
            </a:xfrm>
          </p:grpSpPr>
          <p:grpSp>
            <p:nvGrpSpPr>
              <p:cNvPr id="137" name=""/>
              <p:cNvGrpSpPr/>
              <p:nvPr/>
            </p:nvGrpSpPr>
            <p:grpSpPr>
              <a:xfrm>
                <a:off x="1619280" y="981000"/>
                <a:ext cx="3903120" cy="5400720"/>
                <a:chOff x="1619280" y="981000"/>
                <a:chExt cx="3903120" cy="5400720"/>
              </a:xfrm>
            </p:grpSpPr>
            <p:pic>
              <p:nvPicPr>
                <p:cNvPr id="138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619280" y="981000"/>
                  <a:ext cx="3903120" cy="5400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" name=""/>
                <p:cNvSpPr/>
                <p:nvPr/>
              </p:nvSpPr>
              <p:spPr>
                <a:xfrm>
                  <a:off x="2079000" y="5013360"/>
                  <a:ext cx="3636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Times New Roman"/>
                    </a:rPr>
                    <a:t>30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2735280" y="5013360"/>
                  <a:ext cx="0" cy="64764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2444040" y="5157720"/>
                  <a:ext cx="36360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2954160" y="1125360"/>
                  <a:ext cx="292680" cy="287640"/>
                </a:xfrm>
                <a:prstGeom prst="ellipse">
                  <a:avLst/>
                </a:prstGeom>
                <a:noFill/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" name=""/>
              <p:cNvSpPr/>
              <p:nvPr/>
            </p:nvSpPr>
            <p:spPr>
              <a:xfrm>
                <a:off x="2556000" y="5084640"/>
                <a:ext cx="0" cy="576360"/>
              </a:xfrm>
              <a:prstGeom prst="line">
                <a:avLst/>
              </a:prstGeom>
              <a:ln w="2844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411280" y="5661000"/>
                <a:ext cx="287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3333ff"/>
                    </a:solidFill>
                    <a:latin typeface="Times New Roman"/>
                  </a:rPr>
                  <a:t>3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2627280" y="5661000"/>
              <a:ext cx="216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164360" y="400536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1619280" y="0"/>
            <a:ext cx="7524720" cy="6678000"/>
            <a:chOff x="1619280" y="0"/>
            <a:chExt cx="7524720" cy="6678000"/>
          </a:xfrm>
        </p:grpSpPr>
        <p:sp>
          <p:nvSpPr>
            <p:cNvPr id="148" name=""/>
            <p:cNvSpPr/>
            <p:nvPr/>
          </p:nvSpPr>
          <p:spPr>
            <a:xfrm>
              <a:off x="2627280" y="0"/>
              <a:ext cx="3529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PROBLEMA 2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759280" y="6093000"/>
              <a:ext cx="3384720" cy="58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Prof. J. A. Pero – Sanz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Aceros. Metalurgia Física, Selección y Diseñ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724360" y="3284640"/>
              <a:ext cx="3024360" cy="11912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Redondo de 30 mm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(mitad diámetro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Para H = 0,5         dj = 9 m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Para H = 1,0         dj = 6 mm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170840" y="4292640"/>
              <a:ext cx="274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1619280" y="907920"/>
              <a:ext cx="3857760" cy="5399280"/>
              <a:chOff x="1619280" y="907920"/>
              <a:chExt cx="3857760" cy="5399280"/>
            </a:xfrm>
          </p:grpSpPr>
          <p:pic>
            <p:nvPicPr>
              <p:cNvPr id="15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619280" y="907920"/>
                <a:ext cx="3857760" cy="539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" name=""/>
              <p:cNvSpPr/>
              <p:nvPr/>
            </p:nvSpPr>
            <p:spPr>
              <a:xfrm>
                <a:off x="4932360" y="3141720"/>
                <a:ext cx="360360" cy="28728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195640" y="5229360"/>
                <a:ext cx="6476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771640" y="5157720"/>
                <a:ext cx="0" cy="576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556000" y="5084640"/>
                <a:ext cx="0" cy="649440"/>
              </a:xfrm>
              <a:prstGeom prst="line">
                <a:avLst/>
              </a:prstGeom>
              <a:ln w="2844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003640" y="2637000"/>
                <a:ext cx="360360" cy="215640"/>
              </a:xfrm>
              <a:prstGeom prst="ellipse">
                <a:avLst/>
              </a:prstGeom>
              <a:noFill/>
              <a:ln w="93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2627280" y="5734080"/>
              <a:ext cx="216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411280" y="5734080"/>
              <a:ext cx="287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ff"/>
                  </a:solidFill>
                  <a:latin typeface="Times New Roman"/>
                </a:rPr>
                <a:t>6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164360" y="400536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900000" y="230040"/>
            <a:ext cx="8172720" cy="6633360"/>
            <a:chOff x="900000" y="230040"/>
            <a:chExt cx="8172720" cy="6633360"/>
          </a:xfrm>
        </p:grpSpPr>
        <p:sp>
          <p:nvSpPr>
            <p:cNvPr id="163" name=""/>
            <p:cNvSpPr/>
            <p:nvPr/>
          </p:nvSpPr>
          <p:spPr>
            <a:xfrm>
              <a:off x="2700360" y="230040"/>
              <a:ext cx="3529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PROBLEMA 2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80000" y="3254400"/>
              <a:ext cx="3097440" cy="11912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Redondo de 30 mm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(núcleo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Para H = 0,5         dj = 10 mm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Para H = 1,0         dj = 6 m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039080" y="4292640"/>
              <a:ext cx="280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869080" y="6278400"/>
              <a:ext cx="3203640" cy="58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Prof. J. A. Pero – Sanz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Aceros. Metalurgia Física, Selección y Diseñ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908000" y="6207120"/>
              <a:ext cx="2521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Times New Roman"/>
                </a:rPr>
                <a:t>Fig. VII.5 Curva de Lamont paea r:R = 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900000" y="1484280"/>
              <a:ext cx="4364280" cy="4938840"/>
              <a:chOff x="900000" y="1484280"/>
              <a:chExt cx="4364280" cy="4938840"/>
            </a:xfrm>
          </p:grpSpPr>
          <p:pic>
            <p:nvPicPr>
              <p:cNvPr id="16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900000" y="1484280"/>
                <a:ext cx="4364280" cy="4938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"/>
              <p:cNvSpPr/>
              <p:nvPr/>
            </p:nvSpPr>
            <p:spPr>
              <a:xfrm>
                <a:off x="1403280" y="4941720"/>
                <a:ext cx="287280" cy="28764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050920" y="5589720"/>
                <a:ext cx="287640" cy="28728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2" name=""/>
            <p:cNvSpPr/>
            <p:nvPr/>
          </p:nvSpPr>
          <p:spPr>
            <a:xfrm>
              <a:off x="1619280" y="5084640"/>
              <a:ext cx="6490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427640" y="3213000"/>
              <a:ext cx="360360" cy="2145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2124000" y="5013000"/>
              <a:ext cx="0" cy="647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427640" y="2997360"/>
              <a:ext cx="360360" cy="215640"/>
            </a:xfrm>
            <a:prstGeom prst="ellipse">
              <a:avLst/>
            </a:prstGeom>
            <a:noFill/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79640" y="5013360"/>
              <a:ext cx="0" cy="647640"/>
            </a:xfrm>
            <a:prstGeom prst="line">
              <a:avLst/>
            </a:prstGeom>
            <a:ln w="284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835280" y="566100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99ff"/>
                  </a:solidFill>
                  <a:latin typeface="Times New Roman"/>
                </a:rPr>
                <a:t>6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035840" y="4005360"/>
              <a:ext cx="288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558880" y="189000"/>
            <a:ext cx="34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PROBLEMA 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6659640" y="3429000"/>
          <a:ext cx="2160000" cy="2376000"/>
        </p:xfrm>
        <a:graphic>
          <a:graphicData uri="http://schemas.openxmlformats.org/drawingml/2006/table">
            <a:tbl>
              <a:tblPr/>
              <a:tblGrid>
                <a:gridCol w="720720"/>
                <a:gridCol w="718560"/>
                <a:gridCol w="720720"/>
              </a:tblGrid>
              <a:tr h="4748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H = 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/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j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R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6659640" y="765000"/>
          <a:ext cx="2170080" cy="2415960"/>
        </p:xfrm>
        <a:graphic>
          <a:graphicData uri="http://schemas.openxmlformats.org/drawingml/2006/table">
            <a:tbl>
              <a:tblPr/>
              <a:tblGrid>
                <a:gridCol w="723960"/>
                <a:gridCol w="722160"/>
                <a:gridCol w="723960"/>
              </a:tblGrid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H = 0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/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j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R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1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1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1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6082200" y="6308640"/>
            <a:ext cx="28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Metalotecnia. E.T.S.I.M.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1042920" y="1628640"/>
            <a:ext cx="5257800" cy="3716640"/>
            <a:chOff x="1042920" y="1628640"/>
            <a:chExt cx="5257800" cy="3716640"/>
          </a:xfrm>
        </p:grpSpPr>
        <p:pic>
          <p:nvPicPr>
            <p:cNvPr id="184" name="" descr=""/>
            <p:cNvPicPr/>
            <p:nvPr/>
          </p:nvPicPr>
          <p:blipFill>
            <a:blip r:embed="rId2"/>
            <a:stretch/>
          </p:blipFill>
          <p:spPr>
            <a:xfrm>
              <a:off x="1042920" y="1628640"/>
              <a:ext cx="5257800" cy="371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 flipV="1">
              <a:off x="2916360" y="2349360"/>
              <a:ext cx="0" cy="2232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1476000" y="2492280"/>
              <a:ext cx="1655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2843280" y="2347920"/>
              <a:ext cx="0" cy="2232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2340000" y="2204640"/>
              <a:ext cx="0" cy="2374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1978200" y="2131920"/>
              <a:ext cx="0" cy="2448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1474560" y="2276640"/>
              <a:ext cx="647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1476360" y="2349360"/>
              <a:ext cx="1008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1476360" y="189000"/>
            <a:ext cx="7667640" cy="6484680"/>
            <a:chOff x="1476360" y="189000"/>
            <a:chExt cx="7667640" cy="648468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tretch/>
          </p:blipFill>
          <p:spPr>
            <a:xfrm>
              <a:off x="1476360" y="1125360"/>
              <a:ext cx="5256360" cy="489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4751280" y="6093000"/>
              <a:ext cx="4392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Prof. J. A. Pero – Sanz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ceros. Metalurgia Física, Selección y Diseñ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919240" y="189000"/>
              <a:ext cx="3490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PROBLEMA 2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5292720" y="4149360"/>
              <a:ext cx="0" cy="863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2124000" y="4365720"/>
              <a:ext cx="3384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763640" y="4292640"/>
              <a:ext cx="43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18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76720" y="4869000"/>
              <a:ext cx="432000" cy="4316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7T21:29:50Z</dcterms:created>
  <dc:creator>José Ovidio García</dc:creator>
  <dc:description/>
  <dc:language>en-US</dc:language>
  <cp:lastModifiedBy>José Ovidio García</cp:lastModifiedBy>
  <dcterms:modified xsi:type="dcterms:W3CDTF">2005-07-18T23:59:33Z</dcterms:modified>
  <cp:revision>39</cp:revision>
  <dc:subject/>
  <dc:title>Diapositiva 1</dc:title>
</cp:coreProperties>
</file>